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A82-6E6E-4BD0-AD79-82D5B90A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CB5-AE01-4A2D-8882-D84388AA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95D-7E59-41B4-ACD5-45BF3AF0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160-21A9-4B12-8526-F60CA6D5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F97-B5A0-4AFE-B214-B3C11915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3C9-E0C5-48FA-BB0A-7361CA7A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84A-4494-418C-8F2C-780807F4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538-9C45-47BC-9891-C35F39C9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3DE2-C434-4578-B1D5-8F34251A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FFA-2D07-410E-A3D5-5E7E6EA5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D85-6A35-4B9D-9E76-5944BC35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0DA-64BA-40CD-9334-AA0EE03F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F822-4C9A-4661-BCF5-1A6FBBE6F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Practice Ontology: Version 0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HCLS C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4/08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yoti Pathak (Mayo Cli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523880"/>
            <a:ext cx="6781680" cy="266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72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76560" y="0"/>
            <a:ext cx="479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1828800"/>
            <a:ext cx="4800600" cy="2819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86400" y="3519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100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clude “Medic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/verification of the ontology by other members of the COI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of mappings to SDTM and HL7 via BRI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Reference Clinical Element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keys seemed more appropriate for building “information mode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hanges to the Referenced Clinical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the “hasKey”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5080" y="0"/>
            <a:ext cx="6333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10047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36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648320"/>
            <a:ext cx="464832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5880" y="18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 sub-property hierarchy for “qualifi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hanges to “Vital Signs” and “Lab Observ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2:50:02Z</dcterms:created>
  <dc:creator>Jyotishman Pathak</dc:creator>
  <dc:description/>
  <dc:language>en-US</dc:language>
  <cp:lastModifiedBy>Jyotishman Pathak</cp:lastModifiedBy>
  <dcterms:modified xsi:type="dcterms:W3CDTF">2008-04-08T03:54:51Z</dcterms:modified>
  <cp:revision>61</cp:revision>
  <dc:subject/>
  <dc:title>Slide 1</dc:title>
</cp:coreProperties>
</file>